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0FA0C-BDA7-4852-B136-57B786860EC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the Red Fern Grows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on 1 - Understanding Sentenc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jects may come in different fo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noun as the subject – Billy wants hound do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nouns as a subject – Little Ann and Old Dan are two do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pronoun as the subject – He prays each night for do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pronouns as the subject – He and she are both still awake because of the coon hou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hrase – Staying awake all night is no f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lause – What makes me mad is all the nois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a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he gets the mon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This has a subject [he] and a verb [gets], but you’re left dangling, aren’t you? It’s not a complete sentence. This is called a dependent clause. It depends on something else to make a complete sente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Sen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 will buy coon hounds when he gets the mone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Now we know what’s going on!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rmine if the following are complete sentences or dependent clau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I left my office that beautiful spring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was walking along whistling when I heard the dogf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twenty-five feet from me they caught him and down he w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wn on my kne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one final whimp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the alley emptied into the street, he stopped and looked ba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I watch him disappear in the twilight shadow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ever it was that had interrupted his life, he was trying to straighten it 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I turned to enter my y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I caressed the smooth surfaces, my mind drifted back through the years, back to my boyhood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r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und of the hou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We just saw that a clause has a subject and a verb. There’s no verb here; this is called a phrase. It could be the start of a great sentence, but it needs some help. It needs some action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Sen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und of the hounds echoed in Billy’s mind even after the night quie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Now there’s some action! It makes a very clear, complete sentence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l which part of the sentence (subject or predicate) is missing in the sentence fragments below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hole bucketful of tea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dog-wantin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wling and yelling for Mam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d a talk with hi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build a few senten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r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ng Bil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endent Cla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he time hunting season was 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Sen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he time hunting season was over, young Billy was a nervous wre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r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cat Sam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endent Cla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one loud squ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Sen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one loud squall, our cat Samie scooted under the bar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you tell a complete sentence from an incomplete sentence? Usually you tell just by listen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omplete Sentence (Fragment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da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What? Who does what everyday? I don’t get it. This is not complete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r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low of the f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endent Cla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I sat there in sil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Sen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I sat there in silence, the glow of the fire grew larg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r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rkled like a white star in the heav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endent Cla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I struck a mat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Sen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I struck a match, the smaller cup sparkled like a white star in the heave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Video on Sentence Frag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rain P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ttp://www.brainpop.com/english/grammar/sentencefragments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actice – Complete Sentence or Sentence Fragme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found some slick little trails out in the garden down under some tall hollyhock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ce I decided to make friends with hi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king they were game trai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ma had another talk with Pap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to your Student Packet and complete Lesson 1 Practice for Englis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omplete Sentence (Fragment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day, rain or shi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I don’t care about the weather! Tell me who is doing what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Sen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 hu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This is a very simple sentence, but it has a subject [Billy] and a verb [hunts]. We know what happened and who did it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Sen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 hunts every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Here is the same sentence with a little more information. There’s no confusion here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Sen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 hunts everyday, rain or shi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Here is the same sentence with even more information, and it’s still very clear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mplete sentence must have a subject and a predicate. The subject tells who or what does the action, and the predicate contains the verb and tells what the action 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erb is a word that expresses one of two thing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on:  jump, scream, fly, r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e of being:  appear, seem, fe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ubject can be any of the following thing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son who does the action in the sentence. Grandpa sells goods in his general sto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ce that does the action in the sentence. The general store swarms with people before the Fourth of July celebr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ing that does the action in the sentence. Flour and sugar are mixed together to make cook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son described in the sentence. Grandpa is happy when he makes a good s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ce being described in the sentence. The general store is crowded on Satur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ing being described in the sentence. Cookies are best when the flour and sugar are fres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0C59E-AD6D-4371-B503-A05E4E461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F8E6D-667C-4822-A67B-EC41438CD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377E1-7852-493C-8BA5-744185299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4E70C-8151-43B6-A129-3E7D357C1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BEC6E-6ACD-49CC-B54A-D975B126B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9DEC3-0184-4D1C-8FB5-2B8D041EC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A8240-D84B-45F5-B7E1-DB09067BA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EACAD-2AD7-4114-ABDA-A395C7D18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C5548-6F80-4557-9C62-9224974CA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C469C-D65B-418B-9F00-88395C99C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FA9CF-AF48-4C5D-8D96-CBA1C4D2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A48D6-4E3B-431F-A364-B0A22D1D1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F327A-E046-48F4-86BF-37B6ED59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8A325-A141-44F5-9D9C-1F15FDE0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3C94B-6E3E-4114-8857-1B954DA1F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BDAF1-6889-4F6C-8BDD-41A7C6B51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5651B-D362-44CE-B803-7224E6497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C9ACD-BE04-4BBA-9D81-DF3F8C5ED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4BA05-707B-49EF-B57A-BD521BD8F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2B89E-C3CE-42DC-94A8-A03E365D5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D66A3-0E5F-427F-8B35-66FFAF8BE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FFBD6-8BE3-4ACD-90F4-45B8C419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42184-1090-4D1C-A31A-7EDAEC0C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04FB6-364D-48CF-A809-07C76772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6958A-3FB3-4411-9419-9B98A5BC764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671E1-135B-4612-9928-0C6C61252A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brainpop.com/english/grammar/sentencefragments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510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Where the Red Fern Grows </a:t>
            </a:r>
            <a:br>
              <a:rPr sz="6000"/>
            </a:br>
            <a:br>
              <a:rPr sz="6000"/>
            </a:b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Lesson 1 - Understanding Sentences 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bjects may come in different form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e noun as the subject –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Billy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wants hound dog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wo nouns as a subject –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ittle Ann and Old Da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re two dog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e pronoun as the subject –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rays each night for dog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wo pronouns as the subject –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e and sh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re both still awake because of the coon hound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phrase –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taying awake all nigh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no fu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clause –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What makes me ma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all the noise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us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en he gets the mone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This has a subject [he] and a verb [gets], but you’re left dangling, aren’t you? It’s not a complete sentence. This is called a dependent clause. It depends on something else to make a complete senten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plete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illy will buy coon hounds when he gets the mone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Now we know what’s going on!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Determine if the following are complete sentences or dependent clauses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en I left my office that beautiful spring da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was walking along whistling when I heard the dogfigh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bout twenty-five feet from me they caught him and down he wen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wn on my kne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th one final whimp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ere the alley emptied into the street, he stopped and looked back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 I watch him disappear in the twilight shadow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ever it was that had interrupted his life, he was trying to straighten it ou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 I turned to enter my yar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 I caressed the smooth surfaces, my mind drifted back through the years, back to my boyhood day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hra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sound of the houn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We just saw that a clause has a subject and a verb. There’s no verb here; this is called a phrase. It could be the start of a great sentence, but it needs some help. It needs some action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sound of the hounds echoed in Billy’s mind even after the night quiet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Now there’s some action! It makes a very clear, complete sentence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ell which part of the sentence (subject or predicate) is missing in the sentence fragments below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whole bucketful of tear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y dog-wanting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wling and yelling for Mama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d a talk with him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Let’s build a few sentenc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hra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young Bil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pendent Clau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y the time hunting season was ov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plete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y the time hunting season was over, young Billy was a nervous wreck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hra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ur cat Sam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pendent Clau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th one loud squal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plete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th one loud squall, our cat Samie scooted under the bar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w can you tell a complete sentence from an incomplete sentence? Usually you tell just by listen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complete Sentence (Fragment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ryday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What? Who does what everyday? I don’t get it. This is not complete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hra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glow of the fi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pendent Clau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 I sat there in sil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plete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 I sat there in silence, the glow of the fire grew larg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hra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arkled like a white star in the heave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pendent Clau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 I struck a mat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plete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 I struck a match, the smaller cup sparkled like a white star in the heave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ideo on Sentence Fragm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0" name="sentence_fragments.asf" descr=""/>
          <p:cNvPicPr/>
          <p:nvPr/>
        </p:nvPicPr>
        <p:blipFill>
          <a:blip r:embed="rId1"/>
          <a:stretch/>
        </p:blipFill>
        <p:spPr>
          <a:xfrm>
            <a:off x="2971800" y="2666880"/>
            <a:ext cx="3352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rain Po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www.brainpop.com/english/grammar/sentencefragments/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actice – Complete Sentence or Sentence Fragment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found some slick little trails out in the garden down under some tall hollyhock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ce I decided to make friends with him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nking they were game trail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ma had another talk with Papa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Go to your Student Packet</a:t>
            </a:r>
            <a:r>
              <a:rPr b="0" i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and complete</a:t>
            </a:r>
            <a:r>
              <a:rPr b="0" i="1" lang="en-US" sz="4000" spc="-1" strike="noStrike">
                <a:solidFill>
                  <a:srgbClr val="ffffff"/>
                </a:solidFill>
                <a:latin typeface="Garamond"/>
              </a:rPr>
              <a:t> Lesson 1 Practice for English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complete Sentence (Fragment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ry day, rain or shi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I don’t care about the weather! Tell me who is doing what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plete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illy hun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This is a very simple sentence, but it has a subject [Billy] and a verb [hunts]. We know what happened and who did it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plete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illy hunts everyda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Here is the same sentence with a little more information. There’s no confusion here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plete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illy hunts everyday, rain or shi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Here is the same sentence with even more information, and it’s still very clear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complete sentence must have a subject and a predicate. The subject tells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or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oes the action, and the predicate contains the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verb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d tells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the action i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verb is a word that expresses one of two thing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tion:  jump, scream, fly, ru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ate of being:  appear, seem, fe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subject can be any of the following thing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person who does the action in the sentence. Grandpa sells goods in his general stor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place that does the action in the sentence. The general store swarms with people before the Fourth of July celebratio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thing that does the action in the sentence. Flour and sugar are mixed together to make cooki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person described in the sentence. Grandpa is happy when he makes a good sel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place being described in the sentence. The general store is crowded on Saturda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thing being described in the sentence. Cookies are best when the flour and sugar are fresh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6T21:36:30Z</dcterms:created>
  <dc:creator>Gay  Miller</dc:creator>
  <dc:description/>
  <dc:language>en-US</dc:language>
  <cp:lastModifiedBy>RomaK</cp:lastModifiedBy>
  <dcterms:modified xsi:type="dcterms:W3CDTF">2015-09-02T09:38:10Z</dcterms:modified>
  <cp:revision>29</cp:revision>
  <dc:subject/>
  <dc:title>Where the Red Fern Grows</dc:title>
</cp:coreProperties>
</file>